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7.jpeg" ContentType="image/jpeg"/>
  <Override PartName="/ppt/media/image1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497A-9D38-410D-B0BD-780469D6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2864-D83D-4BD8-98CC-3D6ED1E6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C4D8-1F1B-44F8-80CA-837F33AA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831A-6E32-4387-BF0D-95E7527E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A9F6-A9C1-4BFA-A346-1F3B551A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0550-AC92-463F-AF5D-7F61C4C1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1461-7322-4A84-9B4D-17825E78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1BC4-BDD6-4F7D-B57B-24C0C74A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F387-F5F2-4435-8674-4503836B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4C77-6CBD-48E5-9C1F-29BE7B2F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46F3-34A9-4348-80DF-0FBE2A88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D96-7D59-4F54-BE7B-12340C04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7690-D8CF-45C8-AF99-93A7EA56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8F76-D687-4F58-B6F4-995ABC73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39B0-C66A-49D4-937E-81D9FB53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F1C6-8D70-4BC3-8F13-47EF9A52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894E-63FC-4040-A9F6-26A7ECEC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AC15-622D-42E7-852A-2EACE1D4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9338-3A9B-4ED4-9BBC-97D88164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8677-E83C-4BA7-AF57-4AB7A14F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F69D-EAC5-4E60-9ADD-5FFA8A94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3114-7FE8-4344-9E52-43B23D00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8F0E-875E-47F0-BEDF-EB5E9B90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01C3-EB10-4647-8F30-81FE065B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A7C0-223A-44FA-810C-452167A9FA37}" type="slidenum">
              <a:rPr b="0" lang="pl-PL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956D-143E-48AA-A2AB-F3045AACA058}" type="slidenum">
              <a:rPr b="0" lang="pl-PL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ss.abis.lodz.pl/~magellan/parki/ojcowski/zwierzeta/fauna01.html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ss.abis.lodz.pl/~magellan/parki/ojcowski/zwierzeta/fauna02.html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339966"/>
                </a:solidFill>
                <a:latin typeface="Arial"/>
              </a:rPr>
              <a:t>OJCOWSKI</a:t>
            </a:r>
            <a:r>
              <a:rPr b="1" lang="pl-PL" sz="80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pl-PL" sz="8000" spc="-1" strike="noStrike">
                <a:solidFill>
                  <a:srgbClr val="339966"/>
                </a:solidFill>
                <a:latin typeface="Arial"/>
              </a:rPr>
              <a:t>PARK</a:t>
            </a:r>
            <a:r>
              <a:rPr b="1" lang="pl-PL" sz="80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pl-PL" sz="8000" spc="-1" strike="noStrike">
                <a:solidFill>
                  <a:srgbClr val="339966"/>
                </a:solidFill>
                <a:latin typeface="Arial"/>
              </a:rPr>
              <a:t>NARODOWY</a:t>
            </a:r>
            <a:endParaRPr b="0" lang="en-US" sz="8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24480" y="6019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99"/>
                </a:solidFill>
                <a:latin typeface="Times New Roman"/>
              </a:rPr>
              <a:t>Opracowała: Anna Sosin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med" advTm="4000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58248-4381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86600" cy="365760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sp>
        <p:nvSpPr>
          <p:cNvPr id="406" name=""/>
          <p:cNvSpPr/>
          <p:nvPr/>
        </p:nvSpPr>
        <p:spPr>
          <a:xfrm>
            <a:off x="1523880" y="53352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66"/>
                </a:solidFill>
                <a:latin typeface="Times New Roman"/>
              </a:rPr>
              <a:t>Na terenie parku znajdują się ruiny zamków należących do Szlaku Orlich Gniazd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286000" y="6172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Times New Roman"/>
              </a:rPr>
              <a:t>Ruiny zamku w Ogrodzieńcu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med" advTm="4000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70615-5293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5486400" cy="609588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sp>
        <p:nvSpPr>
          <p:cNvPr id="409" name=""/>
          <p:cNvSpPr/>
          <p:nvPr/>
        </p:nvSpPr>
        <p:spPr>
          <a:xfrm>
            <a:off x="6705720" y="1371600"/>
            <a:ext cx="198108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Times New Roman"/>
              </a:rPr>
              <a:t>Zamek w Pieskowej Skale należący także do grupy zamków obronnych, czyli „orlich gniazd” zbudowanych na skałach wapiennych</a:t>
            </a:r>
            <a:r>
              <a:rPr b="1" lang="pl-PL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med" advTm="4000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20405-1612" descr=""/>
          <p:cNvPicPr/>
          <p:nvPr/>
        </p:nvPicPr>
        <p:blipFill>
          <a:blip r:embed="rId1"/>
          <a:stretch/>
        </p:blipFill>
        <p:spPr>
          <a:xfrm>
            <a:off x="100080" y="457200"/>
            <a:ext cx="4078080" cy="62485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411" name=""/>
          <p:cNvSpPr/>
          <p:nvPr/>
        </p:nvSpPr>
        <p:spPr>
          <a:xfrm>
            <a:off x="5334120" y="1143000"/>
            <a:ext cx="320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Times New Roman"/>
              </a:rPr>
              <a:t>Dużą część parku zajmują bory mieszane z przewagą sosny zwyczajnej.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med" advTm="4000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39487-3006" descr=""/>
          <p:cNvPicPr/>
          <p:nvPr/>
        </p:nvPicPr>
        <p:blipFill>
          <a:blip r:embed="rId1"/>
          <a:stretch/>
        </p:blipFill>
        <p:spPr>
          <a:xfrm>
            <a:off x="3505320" y="990720"/>
            <a:ext cx="5486400" cy="35780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304920" y="1828800"/>
            <a:ext cx="281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66"/>
                </a:solidFill>
                <a:latin typeface="Times New Roman"/>
              </a:rPr>
              <a:t>Na nasłonecznionych skałkach występują zbiorowiska muraw i zarośli kserotermicznych, czyli roślin przystosowanych do środowiska suchego oraz piaszczystego.</a:t>
            </a:r>
            <a:r>
              <a:rPr b="0" lang="pl-PL" sz="2400" spc="-1" strike="noStrike">
                <a:solidFill>
                  <a:srgbClr val="8383ad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581280" y="49528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Times New Roman"/>
              </a:rPr>
              <a:t>Miłek wiosenny – przedstawiciel tej grupy rośli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med" advTm="4000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72448-5418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4800600" cy="4800600"/>
          </a:xfrm>
          <a:prstGeom prst="rect">
            <a:avLst/>
          </a:prstGeom>
          <a:ln w="28440">
            <a:solidFill>
              <a:srgbClr val="006666"/>
            </a:solidFill>
            <a:miter/>
          </a:ln>
        </p:spPr>
      </p:pic>
      <p:sp>
        <p:nvSpPr>
          <p:cNvPr id="416" name=""/>
          <p:cNvSpPr/>
          <p:nvPr/>
        </p:nvSpPr>
        <p:spPr>
          <a:xfrm>
            <a:off x="5562720" y="2133720"/>
            <a:ext cx="27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66"/>
                </a:solidFill>
                <a:latin typeface="Times New Roman"/>
              </a:rPr>
              <a:t>Jedną z roślin chronionych występujących na terenie Ojcowskiego Parku Narodowego jest </a:t>
            </a:r>
            <a:r>
              <a:rPr b="1" lang="pl-PL" sz="2400" spc="-1" strike="noStrike">
                <a:solidFill>
                  <a:srgbClr val="000099"/>
                </a:solidFill>
                <a:latin typeface="Times New Roman"/>
              </a:rPr>
              <a:t>wisienka stepowa,</a:t>
            </a:r>
            <a:r>
              <a:rPr b="1" lang="pl-PL" sz="2400" spc="-1" strike="noStrike">
                <a:solidFill>
                  <a:srgbClr val="006666"/>
                </a:solidFill>
                <a:latin typeface="Times New Roman"/>
              </a:rPr>
              <a:t> zwana również wiśnią karłowatą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5943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99"/>
                </a:solidFill>
                <a:latin typeface="Times New Roman"/>
              </a:rPr>
              <a:t>Wisienka stepow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med" advTm="4000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45106-3395" descr=""/>
          <p:cNvPicPr/>
          <p:nvPr/>
        </p:nvPicPr>
        <p:blipFill>
          <a:blip r:embed="rId1"/>
          <a:stretch/>
        </p:blipFill>
        <p:spPr>
          <a:xfrm>
            <a:off x="3352680" y="609480"/>
            <a:ext cx="5486400" cy="563904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sp>
        <p:nvSpPr>
          <p:cNvPr id="419" name=""/>
          <p:cNvSpPr/>
          <p:nvPr/>
        </p:nvSpPr>
        <p:spPr>
          <a:xfrm>
            <a:off x="533520" y="1600200"/>
            <a:ext cx="26668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99"/>
                </a:solidFill>
                <a:latin typeface="Times New Roman"/>
              </a:rPr>
              <a:t>Parzydło leśne </a:t>
            </a:r>
            <a:r>
              <a:rPr b="1" lang="pl-PL" sz="3200" spc="-1" strike="noStrike">
                <a:solidFill>
                  <a:srgbClr val="006666"/>
                </a:solidFill>
                <a:latin typeface="Times New Roman"/>
              </a:rPr>
              <a:t>–roślina chroniona występująca na terenie parku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med" advTm="4000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2635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21" name="k_malutk" descr=""/>
          <p:cNvPicPr/>
          <p:nvPr/>
        </p:nvPicPr>
        <p:blipFill>
          <a:blip r:embed="rId1"/>
          <a:stretch/>
        </p:blipFill>
        <p:spPr>
          <a:xfrm>
            <a:off x="176040" y="604800"/>
            <a:ext cx="4776840" cy="5110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422" name=""/>
          <p:cNvSpPr/>
          <p:nvPr/>
        </p:nvSpPr>
        <p:spPr>
          <a:xfrm>
            <a:off x="5486400" y="838080"/>
            <a:ext cx="3124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99"/>
                </a:solidFill>
                <a:latin typeface="Times New Roman"/>
              </a:rPr>
              <a:t>Świat zwierzęcy reprezentowany jest między innymi  przez nietoperze, które są głównymi bywalcami jaskiń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430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Times New Roman"/>
              </a:rPr>
              <a:t>Karlik pospolit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med" advTm="4000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04" descr="Sowa uszata"/>
          <p:cNvPicPr/>
          <p:nvPr/>
        </p:nvPicPr>
        <p:blipFill>
          <a:blip r:embed="rId1"/>
          <a:stretch/>
        </p:blipFill>
        <p:spPr>
          <a:xfrm>
            <a:off x="4535640" y="762120"/>
            <a:ext cx="4390920" cy="57909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1295280" y="1295280"/>
            <a:ext cx="2438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6666"/>
                </a:solidFill>
                <a:latin typeface="Times New Roman"/>
              </a:rPr>
              <a:t>Jednym z ptaków drapieżnych, występującym na terenie parku jes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47920" y="5334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99"/>
                </a:solidFill>
                <a:latin typeface="Times New Roman"/>
              </a:rPr>
              <a:t>Sowa uszata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med" advTm="4000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27080" y="258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28" name="01a" descr="Padale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090440"/>
            <a:ext cx="4572000" cy="4472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29" name=""/>
          <p:cNvSpPr/>
          <p:nvPr/>
        </p:nvSpPr>
        <p:spPr>
          <a:xfrm>
            <a:off x="5791320" y="1066680"/>
            <a:ext cx="2590560" cy="53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6666"/>
                </a:solidFill>
                <a:latin typeface="Times New Roman"/>
              </a:rPr>
              <a:t>Beznoga jaszczurka, którą można spotkać przy odrobinie szczęścia ukrytą pod wapiennymi kamieniami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914400" y="59436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99"/>
                </a:solidFill>
                <a:latin typeface="Times New Roman"/>
              </a:rPr>
              <a:t>Padalec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med" advTm="4000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27080" y="258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32" name="02a" descr="Pliszk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1219320"/>
            <a:ext cx="4419720" cy="4190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33" name=""/>
          <p:cNvSpPr/>
          <p:nvPr/>
        </p:nvSpPr>
        <p:spPr>
          <a:xfrm>
            <a:off x="762120" y="1066680"/>
            <a:ext cx="3124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6666"/>
                </a:solidFill>
                <a:latin typeface="Times New Roman"/>
              </a:rPr>
              <a:t>Ptaszek polujący na ziemi „na piechotę”, a że mało płochliwy, można go bez trudu obserwować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724280" y="57150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99"/>
                </a:solidFill>
                <a:latin typeface="Times New Roman"/>
              </a:rPr>
              <a:t>Pliszka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med" advTm="4000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ojcowski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4419720" cy="294804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sp>
        <p:nvSpPr>
          <p:cNvPr id="381" name=""/>
          <p:cNvSpPr/>
          <p:nvPr/>
        </p:nvSpPr>
        <p:spPr>
          <a:xfrm>
            <a:off x="5562720" y="914400"/>
            <a:ext cx="3047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99"/>
                </a:solidFill>
                <a:latin typeface="Times New Roman"/>
              </a:rPr>
              <a:t>W herbie Parku znajduje się stylizowany nietoperz wznoszący się nad ruinami ojcowskiego zamku.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med" advTm="4000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457200" y="838080"/>
            <a:ext cx="82296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9966"/>
                </a:solidFill>
                <a:latin typeface="Times New Roman"/>
              </a:rPr>
              <a:t>Ojcowski Park Narodowy jest najmniejszym spośród 23 parków narodowych w Polsce.Jego powierzchnia liczy 1592 ha. Położony jest w woj.małopolskim, w południowej części Wyżyny Krakowsko – Częstochowskiej.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med" advTm="4000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"/>
          <p:cNvGraphicFramePr/>
          <p:nvPr/>
        </p:nvGraphicFramePr>
        <p:xfrm>
          <a:off x="0" y="0"/>
          <a:ext cx="9144000" cy="670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4000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26098-2032" descr=""/>
          <p:cNvPicPr/>
          <p:nvPr/>
        </p:nvPicPr>
        <p:blipFill>
          <a:blip r:embed="rId1"/>
          <a:stretch/>
        </p:blipFill>
        <p:spPr>
          <a:xfrm>
            <a:off x="3124080" y="762120"/>
            <a:ext cx="5486400" cy="487656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386" name=""/>
          <p:cNvSpPr/>
          <p:nvPr/>
        </p:nvSpPr>
        <p:spPr>
          <a:xfrm>
            <a:off x="228600" y="1600200"/>
            <a:ext cx="2743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9933"/>
                </a:solidFill>
                <a:latin typeface="Times New Roman"/>
              </a:rPr>
              <a:t>Ochronie podlega tu krasowy krajobraz Wyżyny Krakowsko – Częstochowskiej zbudowanej ze skał wapiennyc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1240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41280" y="585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52680" y="60199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Times New Roman"/>
              </a:rPr>
              <a:t>Skały wapienne w Ogrodzieńcu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med" advTm="4000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1586-127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5334120" cy="617220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391" name=""/>
          <p:cNvSpPr/>
          <p:nvPr/>
        </p:nvSpPr>
        <p:spPr>
          <a:xfrm>
            <a:off x="5867280" y="685800"/>
            <a:ext cx="281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6666"/>
                </a:solidFill>
                <a:latin typeface="Times New Roman"/>
              </a:rPr>
              <a:t>Wspaniałym przykładem zjawisk krasowych są nacieki skalne w jaskiniach zwane stalaktytami i stalagmitami.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2590920"/>
            <a:ext cx="2819520" cy="380880"/>
          </a:xfrm>
          <a:prstGeom prst="leftArrow">
            <a:avLst>
              <a:gd name="adj1" fmla="val 50000"/>
              <a:gd name="adj2" fmla="val 185066"/>
            </a:avLst>
          </a:prstGeom>
          <a:solidFill>
            <a:srgbClr val="0000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4114800"/>
            <a:ext cx="2743200" cy="380880"/>
          </a:xfrm>
          <a:prstGeom prst="leftArrow">
            <a:avLst>
              <a:gd name="adj1" fmla="val 50000"/>
              <a:gd name="adj2" fmla="val 180057"/>
            </a:avLst>
          </a:prstGeom>
          <a:solidFill>
            <a:srgbClr val="0000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095880" y="25146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99"/>
                </a:solidFill>
                <a:latin typeface="Times New Roman"/>
              </a:rPr>
              <a:t>STALAKTYTY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72200" y="4038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99"/>
                </a:solidFill>
                <a:latin typeface="Times New Roman"/>
              </a:rPr>
              <a:t>STALAGMITY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med" advTm="4000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35106-2691" descr=""/>
          <p:cNvPicPr/>
          <p:nvPr/>
        </p:nvPicPr>
        <p:blipFill>
          <a:blip r:embed="rId1"/>
          <a:stretch/>
        </p:blipFill>
        <p:spPr>
          <a:xfrm>
            <a:off x="3886200" y="990720"/>
            <a:ext cx="5105520" cy="5562360"/>
          </a:xfrm>
          <a:prstGeom prst="rect">
            <a:avLst/>
          </a:prstGeom>
          <a:ln w="28440">
            <a:solidFill>
              <a:srgbClr val="006666"/>
            </a:solidFill>
            <a:miter/>
          </a:ln>
        </p:spPr>
      </p:pic>
      <p:sp>
        <p:nvSpPr>
          <p:cNvPr id="397" name=""/>
          <p:cNvSpPr/>
          <p:nvPr/>
        </p:nvSpPr>
        <p:spPr>
          <a:xfrm>
            <a:off x="228600" y="2209680"/>
            <a:ext cx="3429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6666"/>
                </a:solidFill>
                <a:latin typeface="Times New Roman"/>
              </a:rPr>
              <a:t>Stalaktytowe nacieki skalne w jaskini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505320" y="3200400"/>
            <a:ext cx="3124080" cy="304920"/>
          </a:xfrm>
          <a:prstGeom prst="rightArrow">
            <a:avLst>
              <a:gd name="adj1" fmla="val 50000"/>
              <a:gd name="adj2" fmla="val 256139"/>
            </a:avLst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med" advTm="4000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3750-4769" descr=""/>
          <p:cNvPicPr/>
          <p:nvPr/>
        </p:nvPicPr>
        <p:blipFill>
          <a:blip r:embed="rId1"/>
          <a:stretch/>
        </p:blipFill>
        <p:spPr>
          <a:xfrm>
            <a:off x="177840" y="533520"/>
            <a:ext cx="4219560" cy="510516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400" name=""/>
          <p:cNvSpPr/>
          <p:nvPr/>
        </p:nvSpPr>
        <p:spPr>
          <a:xfrm>
            <a:off x="380880" y="5791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Times New Roman"/>
              </a:rPr>
              <a:t>Maczuga Herkulesa w Pieskowej Skal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81480" y="1752480"/>
            <a:ext cx="3657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Times New Roman"/>
              </a:rPr>
              <a:t>W Parku tym można także spotkać fantastyczne kształty skałek     i ostańców skalnych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med" advTm="4000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01m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5181480" cy="57200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403" name=""/>
          <p:cNvSpPr/>
          <p:nvPr/>
        </p:nvSpPr>
        <p:spPr>
          <a:xfrm>
            <a:off x="3598920" y="4572000"/>
            <a:ext cx="4286160" cy="360"/>
          </a:xfrm>
          <a:prstGeom prst="rect">
            <a:avLst/>
          </a:prstGeom>
          <a:solidFill>
            <a:srgbClr val="00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715000" y="2819520"/>
            <a:ext cx="2819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6666"/>
                </a:solidFill>
                <a:latin typeface="Times New Roman"/>
              </a:rPr>
              <a:t>Wapienne skały w jesiennej szacie.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med" advTm="4000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08:47:50Z</dcterms:created>
  <dc:creator>Administrator</dc:creator>
  <dc:description/>
  <dc:language>en-US</dc:language>
  <cp:lastModifiedBy>Administrator</cp:lastModifiedBy>
  <dcterms:modified xsi:type="dcterms:W3CDTF">2002-02-15T10:34:45Z</dcterms:modified>
  <cp:revision>22</cp:revision>
  <dc:subject/>
  <dc:title>OJCOWSKI PARK NARODOWY</dc:title>
</cp:coreProperties>
</file>